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5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5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4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41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4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5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238.xml" ContentType="application/vnd.openxmlformats-officedocument.presentationml.notesSlide+xml"/>
  <Override PartName="/ppt/notesSlides/notesSlide239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24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2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5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4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50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3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4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3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2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24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24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5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5.xml.rels" ContentType="application/vnd.openxmlformats-package.relationships+xml"/>
  <Override PartName="/ppt/notesSlides/notesSlide2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24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24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7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3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3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2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49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25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232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33.xml.rels" ContentType="application/vnd.openxmlformats-package.relationships+xml"/>
  <Override PartName="/ppt/slides/_rels/slide53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97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234.xml.rels" ContentType="application/vnd.openxmlformats-package.relationships+xml"/>
  <Override PartName="/ppt/slides/_rels/slide54.xml.rels" ContentType="application/vnd.openxmlformats-package.relationships+xml"/>
  <Override PartName="/ppt/slides/_rels/slide3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220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157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63.xml.rels" ContentType="application/vnd.openxmlformats-package.relationships+xml"/>
  <Override PartName="/ppt/slides/_rels/slide17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171.xml.rels" ContentType="application/vnd.openxmlformats-package.relationships+xml"/>
  <Override PartName="/ppt/slides/_rels/slide155.xml.rels" ContentType="application/vnd.openxmlformats-package.relationships+xml"/>
  <Override PartName="/ppt/slides/_rels/slide16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1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8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12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16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22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54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3.xml.rels" ContentType="application/vnd.openxmlformats-package.relationships+xml"/>
  <Override PartName="/ppt/slides/_rels/slide195.xml.rels" ContentType="application/vnd.openxmlformats-package.relationships+xml"/>
  <Override PartName="/ppt/slides/_rels/slide100.xml.rels" ContentType="application/vnd.openxmlformats-package.relationships+xml"/>
  <Override PartName="/ppt/slides/_rels/slide203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29.xml.rels" ContentType="application/vnd.openxmlformats-package.relationships+xml"/>
  <Override PartName="/ppt/slides/_rels/slide209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202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137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20.xml.rels" ContentType="application/vnd.openxmlformats-package.relationships+xml"/>
  <Override PartName="/ppt/slides/_rels/slide192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239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56.xml" ContentType="application/vnd.openxmlformats-officedocument.presentationml.slide+xml"/>
  <Override PartName="/ppt/slides/slide250.xml" ContentType="application/vnd.openxmlformats-officedocument.presentationml.slide+xml"/>
  <Override PartName="/ppt/slides/slide157.xml" ContentType="application/vnd.openxmlformats-officedocument.presentationml.slide+xml"/>
  <Override PartName="/ppt/slides/slide251.xml" ContentType="application/vnd.openxmlformats-officedocument.presentationml.slide+xml"/>
  <Override PartName="/ppt/slides/slide158.xml" ContentType="application/vnd.openxmlformats-officedocument.presentationml.slide+xml"/>
  <Override PartName="/ppt/slides/slide252.xml" ContentType="application/vnd.openxmlformats-officedocument.presentationml.slide+xml"/>
  <Override PartName="/ppt/slides/slide159.xml" ContentType="application/vnd.openxmlformats-officedocument.presentationml.slide+xml"/>
  <Override PartName="/ppt/slides/slide253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213.xml" ContentType="application/vnd.openxmlformats-officedocument.presentationml.slide+xml"/>
  <Override PartName="/ppt/slides/slide214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46.xml" ContentType="application/vnd.openxmlformats-officedocument.presentationml.slide+xml"/>
  <Override PartName="/ppt/slides/slide53.xml" ContentType="application/vnd.openxmlformats-officedocument.presentationml.slide+xml"/>
  <Override PartName="/ppt/slides/slide235.xml" ContentType="application/vnd.openxmlformats-officedocument.presentationml.slide+xml"/>
  <Override PartName="/ppt/slides/slide210.xml" ContentType="application/vnd.openxmlformats-officedocument.presentationml.slide+xml"/>
  <Override PartName="/ppt/slides/slide247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211.xml" ContentType="application/vnd.openxmlformats-officedocument.presentationml.slide+xml"/>
  <Override PartName="/ppt/slides/slide24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212.xml" ContentType="application/vnd.openxmlformats-officedocument.presentationml.slide+xml"/>
  <Override PartName="/ppt/slides/slide249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34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229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1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5A06-1C43-4D49-BE7B-2AEFD303A66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2.xml.rels><?xml version="1.0" encoding="UTF-8"?>
<Relationships xmlns="http://schemas.openxmlformats.org/package/2006/relationships"><Relationship Id="rId1" Type="http://schemas.openxmlformats.org/officeDocument/2006/relationships/slide" Target="../slides/slide232.xml"/><Relationship Id="rId2" Type="http://schemas.openxmlformats.org/officeDocument/2006/relationships/notesMaster" Target="../notesMasters/notesMaster1.xml"/>
</Relationships>
</file>

<file path=ppt/notesSlides/_rels/notesSlide233.xml.rels><?xml version="1.0" encoding="UTF-8"?>
<Relationships xmlns="http://schemas.openxmlformats.org/package/2006/relationships"><Relationship Id="rId1" Type="http://schemas.openxmlformats.org/officeDocument/2006/relationships/slide" Target="../slides/slide23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238.xml.rels><?xml version="1.0" encoding="UTF-8"?>
<Relationships xmlns="http://schemas.openxmlformats.org/package/2006/relationships"><Relationship Id="rId1" Type="http://schemas.openxmlformats.org/officeDocument/2006/relationships/slide" Target="../slides/slide238.xml"/><Relationship Id="rId2" Type="http://schemas.openxmlformats.org/officeDocument/2006/relationships/notesMaster" Target="../notesMasters/notesMaster1.xml"/>
</Relationships>
</file>

<file path=ppt/notesSlides/_rels/notesSlide239.xml.rels><?xml version="1.0" encoding="UTF-8"?>
<Relationships xmlns="http://schemas.openxmlformats.org/package/2006/relationships"><Relationship Id="rId1" Type="http://schemas.openxmlformats.org/officeDocument/2006/relationships/slide" Target="../slides/slide23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40.xml.rels><?xml version="1.0" encoding="UTF-8"?>
<Relationships xmlns="http://schemas.openxmlformats.org/package/2006/relationships"><Relationship Id="rId1" Type="http://schemas.openxmlformats.org/officeDocument/2006/relationships/slide" Target="../slides/slide240.xml"/><Relationship Id="rId2" Type="http://schemas.openxmlformats.org/officeDocument/2006/relationships/notesMaster" Target="../notesMasters/notesMaster1.xml"/>
</Relationships>
</file>

<file path=ppt/notesSlides/_rels/notesSlide241.xml.rels><?xml version="1.0" encoding="UTF-8"?>
<Relationships xmlns="http://schemas.openxmlformats.org/package/2006/relationships"><Relationship Id="rId1" Type="http://schemas.openxmlformats.org/officeDocument/2006/relationships/slide" Target="../slides/slide241.xml"/><Relationship Id="rId2" Type="http://schemas.openxmlformats.org/officeDocument/2006/relationships/notesMaster" Target="../notesMasters/notesMaster1.xml"/>
</Relationships>
</file>

<file path=ppt/notesSlides/_rels/notesSlide242.xml.rels><?xml version="1.0" encoding="UTF-8"?>
<Relationships xmlns="http://schemas.openxmlformats.org/package/2006/relationships"><Relationship Id="rId1" Type="http://schemas.openxmlformats.org/officeDocument/2006/relationships/slide" Target="../slides/slide242.xml"/><Relationship Id="rId2" Type="http://schemas.openxmlformats.org/officeDocument/2006/relationships/notesMaster" Target="../notesMasters/notesMaster1.xml"/>
</Relationships>
</file>

<file path=ppt/notesSlides/_rels/notesSlide243.xml.rels><?xml version="1.0" encoding="UTF-8"?>
<Relationships xmlns="http://schemas.openxmlformats.org/package/2006/relationships"><Relationship Id="rId1" Type="http://schemas.openxmlformats.org/officeDocument/2006/relationships/slide" Target="../slides/slide243.xml"/><Relationship Id="rId2" Type="http://schemas.openxmlformats.org/officeDocument/2006/relationships/notesMaster" Target="../notesMasters/notesMaster1.xml"/>
</Relationships>
</file>

<file path=ppt/notesSlides/_rels/notesSlide244.xml.rels><?xml version="1.0" encoding="UTF-8"?>
<Relationships xmlns="http://schemas.openxmlformats.org/package/2006/relationships"><Relationship Id="rId1" Type="http://schemas.openxmlformats.org/officeDocument/2006/relationships/slide" Target="../slides/slide244.xml"/><Relationship Id="rId2" Type="http://schemas.openxmlformats.org/officeDocument/2006/relationships/notesMaster" Target="../notesMasters/notesMaster1.xml"/>
</Relationships>
</file>

<file path=ppt/notesSlides/_rels/notesSlide245.xml.rels><?xml version="1.0" encoding="UTF-8"?>
<Relationships xmlns="http://schemas.openxmlformats.org/package/2006/relationships"><Relationship Id="rId1" Type="http://schemas.openxmlformats.org/officeDocument/2006/relationships/slide" Target="../slides/slide245.xml"/><Relationship Id="rId2" Type="http://schemas.openxmlformats.org/officeDocument/2006/relationships/notesMaster" Target="../notesMasters/notesMaster1.xml"/>
</Relationships>
</file>

<file path=ppt/notesSlides/_rels/notesSlide246.xml.rels><?xml version="1.0" encoding="UTF-8"?>
<Relationships xmlns="http://schemas.openxmlformats.org/package/2006/relationships"><Relationship Id="rId1" Type="http://schemas.openxmlformats.org/officeDocument/2006/relationships/slide" Target="../slides/slide246.xml"/><Relationship Id="rId2" Type="http://schemas.openxmlformats.org/officeDocument/2006/relationships/notesMaster" Target="../notesMasters/notesMaster1.xml"/>
</Relationships>
</file>

<file path=ppt/notesSlides/_rels/notesSlide247.xml.rels><?xml version="1.0" encoding="UTF-8"?>
<Relationships xmlns="http://schemas.openxmlformats.org/package/2006/relationships"><Relationship Id="rId1" Type="http://schemas.openxmlformats.org/officeDocument/2006/relationships/slide" Target="../slides/slide247.xml"/><Relationship Id="rId2" Type="http://schemas.openxmlformats.org/officeDocument/2006/relationships/notesMaster" Target="../notesMasters/notesMaster1.xml"/>
</Relationships>
</file>

<file path=ppt/notesSlides/_rels/notesSlide248.xml.rels><?xml version="1.0" encoding="UTF-8"?>
<Relationships xmlns="http://schemas.openxmlformats.org/package/2006/relationships"><Relationship Id="rId1" Type="http://schemas.openxmlformats.org/officeDocument/2006/relationships/slide" Target="../slides/slide248.xml"/><Relationship Id="rId2" Type="http://schemas.openxmlformats.org/officeDocument/2006/relationships/notesMaster" Target="../notesMasters/notesMaster1.xml"/>
</Relationships>
</file>

<file path=ppt/notesSlides/_rels/notesSlide249.xml.rels><?xml version="1.0" encoding="UTF-8"?>
<Relationships xmlns="http://schemas.openxmlformats.org/package/2006/relationships"><Relationship Id="rId1" Type="http://schemas.openxmlformats.org/officeDocument/2006/relationships/slide" Target="../slides/slide24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50.xml.rels><?xml version="1.0" encoding="UTF-8"?>
<Relationships xmlns="http://schemas.openxmlformats.org/package/2006/relationships"><Relationship Id="rId1" Type="http://schemas.openxmlformats.org/officeDocument/2006/relationships/slide" Target="../slides/slide250.xml"/><Relationship Id="rId2" Type="http://schemas.openxmlformats.org/officeDocument/2006/relationships/notesMaster" Target="../notesMasters/notesMaster1.xml"/>
</Relationships>
</file>

<file path=ppt/notesSlides/_rels/notesSlide251.xml.rels><?xml version="1.0" encoding="UTF-8"?>
<Relationships xmlns="http://schemas.openxmlformats.org/package/2006/relationships"><Relationship Id="rId1" Type="http://schemas.openxmlformats.org/officeDocument/2006/relationships/slide" Target="../slides/slide251.xml"/><Relationship Id="rId2" Type="http://schemas.openxmlformats.org/officeDocument/2006/relationships/notesMaster" Target="../notesMasters/notesMaster1.xml"/>
</Relationships>
</file>

<file path=ppt/notesSlides/_rels/notesSlide252.xml.rels><?xml version="1.0" encoding="UTF-8"?>
<Relationships xmlns="http://schemas.openxmlformats.org/package/2006/relationships"><Relationship Id="rId1" Type="http://schemas.openxmlformats.org/officeDocument/2006/relationships/slide" Target="../slides/slide252.xml"/><Relationship Id="rId2" Type="http://schemas.openxmlformats.org/officeDocument/2006/relationships/notesMaster" Target="../notesMasters/notesMaster1.xml"/>
</Relationships>
</file>

<file path=ppt/notesSlides/_rels/notesSlide253.xml.rels><?xml version="1.0" encoding="UTF-8"?>
<Relationships xmlns="http://schemas.openxmlformats.org/package/2006/relationships"><Relationship Id="rId1" Type="http://schemas.openxmlformats.org/officeDocument/2006/relationships/slide" Target="../slides/slide25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CB00-8272-4133-AA9A-DCEC4ACE66D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15F-504B-45FC-9604-C04B9055F7C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ter your initials and password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B722-DFFC-47C1-B330-02D6EB978DC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855-95C9-41A2-95F8-8B8E13679DC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C77-B9E1-408D-9D44-00A1A9868EB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C6C2-2931-424E-8B1B-B524C62A77B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2DA-0767-4ED2-90D2-185F90A08DD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07C-5F78-43D6-B125-E4F1E625C34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1D84-2843-4A3C-B8B7-924CE599EA9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793B-01E3-404F-905A-2E996B29B0D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BE8F-13F2-4222-A914-3AC4A417B80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FCF2-9898-4009-9CE7-E862FBC8BF0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7E4-10F9-4FA4-A8B3-B1D24E77F14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You are taken to the opening page for the Millennium Module you were in.  Millennium will always open the version of the manual for the Release that server is on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29D-4B83-486E-9E36-5BB1E362488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6E5-C10D-4C27-8DA4-5CC6CB15422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3A0-8F29-44E2-8665-951A379A335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ACB-CEA8-4EB2-9499-0F53CE4F876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A204-2910-4C60-9EAF-2DDCE449B70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97C-AF2D-45BC-8703-78B9F561A98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40E0-1DC9-43A1-9D40-0EBC105DD80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2267-8398-4246-BB7C-4EEE9EF6779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2F8-BB68-42C8-9FF0-B27F08546A7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ECC6-4D8F-49C2-BAE2-5DF5B50FA9A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FF73-B5E0-44F6-95AC-99013225A22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re are multiple ways to search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Search by Table of Contents – This is the default when it opens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enus expand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B7C8-76B5-47D1-A8F5-EC308D3396C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920-BC21-40EA-8737-E2D18CCF70E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F77-D563-4163-88D5-5FC00BCB61E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8F68-D716-4E26-8B50-C813F88DACD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C285-134B-4A61-9E72-EAA36320B1A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8C74-561F-40DB-8C7B-1EC1672724F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3ED-3C34-4B36-8816-302B0B29CE9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99D-F0E4-4EC6-9564-2C9ED3E9580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77F-74AA-4A08-9106-3FDBE10DCE8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0A2-C610-4328-BFC0-0E29B3B5C55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32A0-9179-47CF-A22E-53FEE4B5078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re are multiple ways to search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Search by Table of Contents – This is the default when it opens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enus expand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36F-0288-4172-92A8-7692B8108BE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751-91EA-42E4-A1D0-426ADF3EBE3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CDD-3316-493E-9DC3-B7F297E69E1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8BA8-4BEE-435A-B246-41C21556E58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0F9-5606-418B-8578-A54AC51E101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8C09-2DD9-4831-AEA6-DB0716CD15E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B986-AC69-4219-ACE7-5894728419B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3866-9602-4B64-8FCE-F55ABD87F1A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5E18-3CDA-4903-8F4B-0197890FCA8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7CC-F34C-4F9F-BA63-3180A0D501D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474B-D8FB-4630-BA7C-C553A637F7F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dex Searching – Enter your search term and it will jump to option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2EC5-A0DD-42F0-8564-4EEBC3C25DF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F74F-2DBB-4B70-87E1-B6E4895CDB0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FBA-CD17-4787-AFEB-234E9C64363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D5A-27C9-4B3C-AA61-E1C4E4FBEC0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F64C-1C55-476C-9CA4-13EAC1C5409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7CC-3887-45F0-93E9-B43F98B9B4B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EBD-4D20-49B4-AA3F-35D3C76E9FC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4DF-D411-4BC6-8E92-607900E7CC5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662-9B97-411B-92C5-51660C23CD8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E154-8607-47DD-ACD3-5106456E164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DC0-EEF8-437B-B1EF-F8939C47232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dex Searching – Enter your search term and it will jump to option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1DB-DC50-41C9-BE97-AD7EB7F12FF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4797-DC00-468C-8D9C-9E7A9BC9FE7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2C26-53B5-4A47-A337-7DCDEF6D97A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299-CC5B-4311-AADE-A842CE292AB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F8A-7679-4DE1-9EC4-CB08D18160C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39FF-BCAB-478F-A975-57DAE77C860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6F57-9E4D-4113-A26B-273D83224C3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483-7DE2-4E47-9EF3-FAABDFC3682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46B-DC2E-4BF7-867C-E192D68EA06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C27B-2A1B-4E5B-AD72-FC58DF1B93C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EFD3-524A-4D17-95AB-2E3389EC3AE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dex Searching – Enter your search term and it will jump to option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9AB9-5E29-4372-8D5F-D3168D3337D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F3F-2B39-4A33-85C0-3AA66011A66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22F2-4055-404C-8463-9E02E7FCA51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2770-01ED-4AD3-B392-FF6BFCD6912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EB84-69FD-4AE2-9334-ECFE6DCC7C2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CAA1-A935-4D49-B5B1-4CBF7FC1B1E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DCB-73E1-47EA-BB01-252AE5854FF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EF85-036C-4566-A127-14A6055D90D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7C8-025D-44F4-9157-CE20606595D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AFA5-C29C-41ED-9E4A-B3BC5C417F7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ACD-44E1-4B65-ACE9-2CF7A95F3DC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ter your search term, enter or click search, and double click on the result you want to look at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DEC2-A9A9-4CC1-AD62-5BAF2B1FC7D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06A-4D9B-4659-841C-31E279C1900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53B2-E5FD-45DA-9DC0-ECA37BB6089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5B90-1950-4744-95AA-8122E17B35D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161D-F3D6-4F78-A283-FC29796CFDF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5EC-4605-4E25-A304-A2516104C7C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02D3-9C72-4DA6-A3FC-DB8B440C6D6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EDC8-0250-49FA-A138-C460A6C776D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7EE0-C53A-4968-A078-F01413EB334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493C-8658-4618-A3CC-C75C4CEFC8A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2FE2-6B1D-4A05-BB8A-6F354A4A3F4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ter your search term, enter or click search, and double click on the result you want to look at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AE0-59D1-47FC-8A8D-BE84F230A2B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1C54-C4F3-4FA3-9ABE-E8F7620F91E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E736-CFFB-4A44-93DB-6ECF8037E5D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7C0-E8CB-43B5-B0EA-B1D4C65A139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DA0-24BC-4357-B3A7-AB324C0053A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66F7-FBF5-4769-A408-B67FD409266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5A2D-94CC-48CD-A0FE-DA2CDE1E6D1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2A6-DFBF-4055-9C99-2296937BA7B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ED01-6EB7-4600-8358-8AF90FFC1D1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014-E26E-46D0-BD46-6110D574DA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29BA-DF06-49C4-9F9D-885A4B1FA81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ter your search term, enter or click search, and double click on the result you want to look at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E0D2-C8F3-4997-B825-8F9A4A54A96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E40-FC74-420A-AE5E-A0CA0411886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2CFB-92A8-44B9-B6F8-B4002F98E60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234-8A59-48F4-8888-C59DE742D60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BF21-D05F-4068-BFC3-FA456F65FC1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F82F-E233-41A8-B827-132EC1CB565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0BD5-D5DC-4AE9-89DA-D2EFD608E35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68F-8975-4EBB-A834-4EF8259FA36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34A-0763-4B42-9D13-CD1DD3882ED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A25D-CC7B-4594-9E16-7DB0C1AA650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287-87C0-45FF-8507-C9A89926C0A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540-5201-4A01-9AA8-2998B82A9C3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 Search ID number is where you can enter the numbers on the agenda.  It allows you search for specific “page” in the manual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663F-5397-44BA-A86D-323306865D0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C2CB-FD89-43F4-8FB5-FCE0D6E6D9E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A82-43F6-4AC6-8003-E50861A1289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4C9D-369B-4AF3-A61B-805A3647E89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1A9-30E1-41B4-94A6-20CF9621EBE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FD59-C642-404A-8558-A4CA20B385B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1611-3687-4495-A8CC-86508D131F2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DAF4-A7F8-46DB-859F-333F3391734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A43-0F52-4DDC-BDDC-321C2B1401A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36E2-7636-43EE-87A8-EB92528483C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FEEF-9700-46AD-BB69-86ECA863AA1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 Search ID number is where you can enter the numbers on the agenda.  It allows you search for specific “page” in the manual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A36-B3A3-4534-B91D-32A2B42F9D3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A55-907F-4300-B3D0-CFD1ADD4D57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F65-1ED4-4087-9B86-3F6ADAB14D1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AC5E-9674-439C-B56C-AF39589BFE6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3151-E1D5-4E6C-A5E2-BBAF3B4526A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834-72DD-4C2E-90E7-91282061F90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6FF-3335-46C0-83C3-A987D2406B8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8E51-E010-407B-B096-5399D677A33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BACE-A8D3-4D93-B50B-5651317E075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24A-456B-4079-BD7C-AD7E8CA75D7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632-F838-4B66-BB67-354E47EBA77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 Search ID number is where you can enter the numbers on the agenda.  It allows you search for specific “page” in the manual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1A3C-2526-429C-BCA2-33E7BB09B66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2DF-4302-4D33-BA6F-CFF254059D9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F8B1-F584-46D6-98D8-89DE057BBB2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044-3AEA-49F8-B906-5FE7F00B15C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1BD-8308-4D4A-96B1-D4F74848927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2E5-26B5-48C4-92DC-A8D23DEB9B7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9E8-C7F8-42E0-8853-CC8BE55A0AB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6D4A-E86E-464A-A07F-B3285FE787E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34C-5087-444A-A0ED-E2306A857C6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0A6A-BB25-4B34-A76B-25968DB9DA6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570-8F15-46F8-9B0B-37E4729DE0A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728-315B-486C-ADC7-6090271B5F6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E85A-4174-48B0-A3F5-CDDD6B9B44D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750-3B9A-47CA-874A-BA1A8A542A4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9EA7-CD90-4BBF-B529-1CADE211FD2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B83B-51F8-4E35-BBF4-82A47ACB669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D67B-1248-46CE-9EC0-1A91ECDB973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F0BA-21B9-4818-B101-2C627610127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9D04-168B-4E67-8395-B74AF34A1B9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847A-1709-4BB3-8556-41AD52FF79C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DA23-5B5E-4078-B1D7-712675636D9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F1B-BBFF-4F18-B0C9-017212D3DB9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F4E3-B60D-4A65-91E8-C9FBF118BE8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F25-87DC-43B9-B9C6-4B9069F1784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850-BABE-490C-862B-D8C85C29404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85E-6219-4252-94B8-99EBF5A5933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FCCF-6689-4985-84A7-FF396C27A31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E34-69C7-40B4-B530-ECFAF95A8B3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3AD2-BED5-48D5-941C-6160A97314E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C43-8C38-47E4-AD2F-AB044A4D8EB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2E23-899E-4182-BF6F-22704DD640C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9FE-751D-4B7A-BFBF-0E7357D2291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B496-5A7C-43D9-A734-492FED170D9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03E0-D002-4217-992A-3B6564AF2C5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083-2B39-4C88-972E-3BCD5DF7084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635C-1AD9-4BCC-8201-6B992D1F0E3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B14-F477-4F97-B6D8-85B1128B5E4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3FE-8A64-4B4B-92FC-4583B57EFF3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7D7E-DE04-49DC-81DF-AA3206D01CD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C49E-1564-4100-A950-29F5426C825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4ACA-DAE5-4000-B02B-AAF0A640D2B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6D3-390A-4F30-AB3C-66384BC41F6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57CD-C65D-4F41-840B-7356F8E9945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061-090A-43F1-84C7-66FFE6554C6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18F1-85AD-4F45-99C4-0A5442DFC35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B408-06CB-4840-B6B9-6CF8CAE05DF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839-7668-42F5-AEA4-F195EE851A1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C10F-44F7-43E7-A167-0DA0E62EDC4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CC4D-1220-4B3F-B0EE-7E6481007D7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87B-F46D-426B-A695-97180CFB504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A1E-97A4-40F1-AF63-23AFA62E947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B90-30C8-4C10-A1CA-DB902DD1E8F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2591-0272-4F40-98B9-51334A35459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80D-BD1D-4C3E-9BCA-CEFD9D50C72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71A-C344-4CAD-8FA8-0DD71F31487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0EB-683D-4EAD-A295-9F18CA30D6D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229-A3CA-4F96-B9DD-BFF7E15E4E8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742-B838-4DFD-BE17-87961FACFDD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58A-087F-4391-AF52-BF426EEC6B0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5462-352D-46F8-9306-196BB2F0369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3CB-28D5-4A92-B5BE-29D54776EAD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A538-7EE0-4D3F-9AA0-58CAAA11683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EBD4-D413-408E-B3DB-E1D00E9EEE7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2DB-7AB0-4F4B-B6F9-DDB332AD4BF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441-270A-4690-AD88-EA1D0CC8821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431A-7D23-4A74-9E52-0AF85B077D2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82DE-5D52-4BE8-9CE6-F70FFF0E536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F9E2-0237-4273-8B04-13F9717F761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822-7F77-436E-8700-3C6E99C6AA0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EE1E-4742-4B67-A444-418ED65AFCE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D9A1-F065-43C6-8E43-CE8551298BF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EFA-B7EA-44E9-A3AC-A87B60E8ECB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511B-614C-4448-9A17-D8979CD3D8E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228F-66EF-423D-859C-55F97E22F6A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E095-BA2E-421C-A203-28C0F0C02A1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 numbers in () on the agenda are page numbers from the Release 2007 III Users Manual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o use the numbers, go to the users manual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You can access the manual two ways: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SDirect   or     from a Millennium modu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7BE-DD0A-49DF-A3CB-E60A08A81E0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6F9A-F3A6-4DB4-9AB9-17519F916D4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8BCF-2568-49E8-8E25-57E5845FE01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96AC-6AAC-4398-9D63-DB93DBA9CF9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D617-84D2-4B50-9664-FA8C7C46A2D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D77D-8D69-40ED-9536-D17F7203742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0CDC-FA89-40D7-88A8-023498FC7DB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165-F851-41E2-8976-8B1D465E1B5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8FF3-5B23-4D6A-865B-7EB84A1EBEC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305-C23C-437D-8F0E-E82B1CA38BF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CB8-5470-44D4-BD8F-84306308786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When you use CSDirect, the manual opens to the introduction.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EAED-0A84-4BEF-A861-9C1CABB991E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D51-09B4-41BA-ADC7-23A3823CBE8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7165-1CEC-4622-A184-81184C2086D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6A9-B60B-4870-8BE7-48163CED136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F23-D240-4AEA-8965-DDA4A7DA1D2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3BA7-DFB5-4B9E-AA28-2FDF1DEF361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D6F7-C666-4C92-B7DB-0E24B3FCBC1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EF3-03FC-433D-B8E8-184D3568EE8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7174-78F7-4F90-B0F2-AFF536EB6F7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DCF-283C-4482-B7D4-38C83D3346D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35E-A4FC-4C80-90BF-3EB595E709C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9B9-CB45-4783-B315-5B99A3F252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2C7-4D0D-46EB-AB36-CAFA405C9DB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8A7A-DE05-41D3-B7CA-74B544CCF77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7F63-12F0-4AE4-A13A-AB11B34BA56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053-0ECD-4551-BDA3-9F8A9EAF5AB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E4A7-567D-4EBB-A1F2-D807EC3956F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FD8-D189-410E-B29E-705A5233D71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9B26-B778-4E58-B22C-49457E6754E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12A3-D5A0-44C4-9D74-E432292C0A1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A5C1-8262-4B7C-A680-D3D0943BDC8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39BF-652B-42D7-ADF7-AA6AA47BC2E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 a Millennium Module, go to the Help &gt; Manual menu optio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B736-1872-4F17-B6A9-532F6DDD809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F35-B4DC-4757-ABDC-112B8CC3053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7C14-4F54-4B88-9B3D-95AC17B516C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DE93-A4C6-4B5E-9E30-6CB5CA26425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5F09-EEF0-41A3-9E32-AE55F34060F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48C1-77CF-4DD5-A3A9-21C216C9395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5EE2-D3D3-453C-B2E9-554A52E98C1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89DD-ABD5-432F-9B1E-65995BCDFBA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CE4-315A-473E-811D-88644A9B1FA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B790-97CE-4067-AF2F-CDD2A2D2692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F23-89C3-4BA1-9122-0255120C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E82-6A52-451A-9C21-194BE8D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9A4-F5DE-4CB4-875C-72525EA2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9B3-FC6D-4069-BEAF-4851C320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628-2F43-47DE-B77C-9A85C7BB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80D-E613-495E-9A62-6DC4367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6AD-029F-4AC4-A412-77CB8942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19E-DB60-467D-95CC-5002411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D7B-6282-4C31-A1C1-600F542B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BFB-7D4E-40AF-8E88-E4EF3A4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77C-47C2-44F8-AFF9-870C1F5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F6F-C358-40CD-9EAA-9FC035B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B60E-4ACB-4FF8-A5B4-55370FD171C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7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8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0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4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6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7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8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0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GouldC@umsystem.edu" TargetMode="External"/><Relationship Id="rId3" Type="http://schemas.openxmlformats.org/officeDocument/2006/relationships/hyperlink" Target="mailto:mcohelp@umsystem.edu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MOBIUS_slides_1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4953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opher Goul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, Operations/Help Des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US Consortium Offi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thority Control Workshop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2848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90" name="Oval Callout 4"/>
          <p:cNvSpPr/>
          <p:nvPr/>
        </p:nvSpPr>
        <p:spPr>
          <a:xfrm>
            <a:off x="3276720" y="2743200"/>
            <a:ext cx="4267080" cy="2971800"/>
          </a:xfrm>
          <a:prstGeom prst="wedgeEllipseCallout">
            <a:avLst>
              <a:gd name="adj1" fmla="val -59925"/>
              <a:gd name="adj2" fmla="val -74277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opening the manual from Millennium, you will need to enter your initials {not your login} and passwor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llennium Automatic Authority Control Processing (AACP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es AACP do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s for bib headings that match authority SEE FROM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s bib headings to match authority Main Entry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CP Trigger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s to authority records (NOT bib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a record, load a record, or update ANY data in a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ing and closing a record NOT sufficient to trigger AA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CP Step 1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s authority SEE FROM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s authority heading against relevant ind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s matching bib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match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ct mat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” (U.N.) and “un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ct match followed by a space &amp; additional da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” and “un security counsel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NOT a match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ct match followed by additional data WITHOUT an intervening 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” and “united states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 1 – Exception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will not process an authority record whose Main Entry is 180, 181, 182, or 185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does not update 6xx subfield z if a matching 451 name heading is proces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2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CP – Step 2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ies that the MARC tags for the authority SEE FROM and the matching bib heading correspo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2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 2 – MARC tag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2209680"/>
          <a:ext cx="7772400" cy="3834000"/>
        </p:xfrm>
        <a:graphic>
          <a:graphicData uri="http://schemas.openxmlformats.org/drawingml/2006/table">
            <a:tbl>
              <a:tblPr/>
              <a:tblGrid>
                <a:gridCol w="2590920"/>
                <a:gridCol w="1447560"/>
                <a:gridCol w="37339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li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Personal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00, 400, 440, 600, 630, 700, 730, 800, 830, 100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Corporate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10, 410, 610, 710, 810, 110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Meeting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11, 411, 611, 711, 811, 111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Uniform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30, 440, 630, 730, 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Topical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Geographic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Genre/Form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CP – Step 3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s the bib and authority SEE FROM headings as stored in the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s the bib heading if possi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2848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94" name="Oval Callout 4"/>
          <p:cNvSpPr/>
          <p:nvPr/>
        </p:nvSpPr>
        <p:spPr>
          <a:xfrm>
            <a:off x="4800600" y="76320"/>
            <a:ext cx="4267080" cy="2971800"/>
          </a:xfrm>
          <a:prstGeom prst="wedgeEllipseCallout">
            <a:avLst>
              <a:gd name="adj1" fmla="val -47486"/>
              <a:gd name="adj2" fmla="val 36500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you use Millennium to access the manual, it opens to the beginning page for the module you opened it from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Oval Callout 5"/>
          <p:cNvSpPr/>
          <p:nvPr/>
        </p:nvSpPr>
        <p:spPr>
          <a:xfrm>
            <a:off x="3048120" y="4267080"/>
            <a:ext cx="3809880" cy="2514600"/>
          </a:xfrm>
          <a:prstGeom prst="wedgeEllipseCallout">
            <a:avLst>
              <a:gd name="adj1" fmla="val -67351"/>
              <a:gd name="adj2" fmla="val 38421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te: Millennium always opens the manual for the Release that the server is running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 3 – Comparis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-by-character comparis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subfields &amp; punctu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ending punc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ensitiv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 3 – Exception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ing punctuation (. , ; : &gt;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 included in abbreviations (“Jr.”) and initials (“T.S. Eliot”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” and “-” ALWAYS includ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fields that do not fall under authority control (e.g. 100, subfields e, 4, or 6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Gen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 3 – Exception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respects bib non-filing indicat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828800" y="3048120"/>
          <a:ext cx="5334120" cy="2971800"/>
        </p:xfrm>
        <a:graphic>
          <a:graphicData uri="http://schemas.openxmlformats.org/drawingml/2006/table">
            <a:tbl>
              <a:tblPr/>
              <a:tblGrid>
                <a:gridCol w="2550960"/>
                <a:gridCol w="27831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7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– Nam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CP: Heading-Specific R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ame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– Names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ame Headings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100, 110, 111, 700, 710, 711 fields not containing subfield 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400, 410, 411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compares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 por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bib heading with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 por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authority SEE FRO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- Nam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is the “name portion” of a heading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end of field; 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not under authority control (e.g., 3 or 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end of field; 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2 -  Nam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C tags for Name Heading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85800" y="2209680"/>
          <a:ext cx="7848720" cy="2210040"/>
        </p:xfrm>
        <a:graphic>
          <a:graphicData uri="http://schemas.openxmlformats.org/drawingml/2006/table">
            <a:tbl>
              <a:tblPr/>
              <a:tblGrid>
                <a:gridCol w="2616120"/>
                <a:gridCol w="1462320"/>
                <a:gridCol w="37702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li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Personal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00, 400, 440, 600, 630, 700, 730, 800, 830, 100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Corporate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10, 410, 610, 710, 810, 110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Meeting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11, 411, 611, 711, 811, 111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Nam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 Heading Upd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portion of bib updated to authority Main Entry (1xx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ing punctuation of bib heading retained, where appropri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 tag of bib heading changed, where appropriat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Nam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 Heading Upd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a bibliographic name portion updated if it completely matches an 410 or 411 authority SEE FRO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will NOT change the bib heading if the authority SEE FROM heading contains a subfield 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–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CP: Heading-Specific R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ame-Title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60156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99" name="Oval 21"/>
          <p:cNvSpPr/>
          <p:nvPr/>
        </p:nvSpPr>
        <p:spPr>
          <a:xfrm>
            <a:off x="5686560" y="866880"/>
            <a:ext cx="685800" cy="58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Oval Callout 8"/>
          <p:cNvSpPr/>
          <p:nvPr/>
        </p:nvSpPr>
        <p:spPr>
          <a:xfrm>
            <a:off x="2819520" y="1981080"/>
            <a:ext cx="3657600" cy="1905120"/>
          </a:xfrm>
          <a:prstGeom prst="wedgeEllipseCallout">
            <a:avLst>
              <a:gd name="adj1" fmla="val -208"/>
              <a:gd name="adj2" fmla="val -50342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default display is the Table of “CONTENTS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Oval Callout 11"/>
          <p:cNvSpPr/>
          <p:nvPr/>
        </p:nvSpPr>
        <p:spPr>
          <a:xfrm>
            <a:off x="304920" y="4267080"/>
            <a:ext cx="3429000" cy="1447920"/>
          </a:xfrm>
          <a:prstGeom prst="wedgeEllipseCallout">
            <a:avLst>
              <a:gd name="adj1" fmla="val -33740"/>
              <a:gd name="adj2" fmla="val -225884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ou can expand these menus by clicking the “+”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 flipV="1">
            <a:off x="4571640" y="1370880"/>
            <a:ext cx="122004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Straight Arrow Connector 13"/>
          <p:cNvCxnSpPr/>
          <p:nvPr/>
        </p:nvCxnSpPr>
        <p:spPr>
          <a:xfrm flipH="1" flipV="1">
            <a:off x="2514240" y="1751760"/>
            <a:ext cx="205776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–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ame/Title Headings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100, 110, 111, 700, 710, 711 fields containing subfield 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400, 410, 411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–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ame/Title Headings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compar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 por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bib heading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 por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uthority SEE FRO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compar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itle por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bib heading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itle por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uthority SEE FRO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–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is the “name portion” of a heading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end of field; 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not under authority control (e.g., 3 or 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end of field; 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a through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–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is the “title portion” of a heading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t through end of field; 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t through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not under authority contr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field t through end of fiel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2 - 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 tags for Name/Title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85800" y="2209680"/>
          <a:ext cx="7848720" cy="2210040"/>
        </p:xfrm>
        <a:graphic>
          <a:graphicData uri="http://schemas.openxmlformats.org/drawingml/2006/table">
            <a:tbl>
              <a:tblPr/>
              <a:tblGrid>
                <a:gridCol w="2616120"/>
                <a:gridCol w="1462320"/>
                <a:gridCol w="37702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li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Personal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00, 400, 440, 600, 630, 700, 730, 800, 830, 100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Corporate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10, 410, 610, 710, 810, 110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Meeting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11, 411, 611, 711, 811, 111/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– Names/Tit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me-Title Heading Updat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only updates the bibliographic  heading if BOTH the name AND title portions match the name and title portions of the authority SEE FROM (4xx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– Titles/Ser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CP: Heading-Specific R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itle/Series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– Titles/Ser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tle/Series Heading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x30, 4xx, 8xx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430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s bib and authority headings as with Name or Name/Title headings, depending on whether the bib heading contains a subfield 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2 – Titles/Ser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 tags for Title/Series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09480" y="3124080"/>
          <a:ext cx="7772400" cy="106704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3733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li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Uniform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30, 440, 630, 730, 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– Titles/Ser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tle/Series Heading Updat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d as Name or Name/Title headings, depending on whether the bib heading contains a subfield 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4xx fields converted to 8xx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12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106" name="Oval Callout 10"/>
          <p:cNvSpPr/>
          <p:nvPr/>
        </p:nvSpPr>
        <p:spPr>
          <a:xfrm>
            <a:off x="5181480" y="3124080"/>
            <a:ext cx="2971800" cy="2057400"/>
          </a:xfrm>
          <a:prstGeom prst="wedgeEllipseCallout">
            <a:avLst>
              <a:gd name="adj1" fmla="val -157097"/>
              <a:gd name="adj2" fmla="val 61569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uble Click to display the pag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CP: Heading-Specific R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ubject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1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ject Heading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6XX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45x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P compares bib and authority headings as with Name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2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C tags for Subject Heading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2209680"/>
          <a:ext cx="7772400" cy="1619280"/>
        </p:xfrm>
        <a:graphic>
          <a:graphicData uri="http://schemas.openxmlformats.org/drawingml/2006/table">
            <a:tbl>
              <a:tblPr/>
              <a:tblGrid>
                <a:gridCol w="2590920"/>
                <a:gridCol w="1447560"/>
                <a:gridCol w="37339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li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Topical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Geographic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Genre/Form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 Heading Upd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Subject headings updated as with Name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Subject heading MARC tags &amp; indicators updated as with Name heading ta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ding Punctuat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updated bib field is followed by a subfield 2, 3, 4,or 6, AACP retains the ending punctuation from the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ding Punctuat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updated bib field is followed by a subdivision (subfields v-z), AACP uses the ending punctuation from the authority Main Entry (1xx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ubject Heading Thesaurus Check</a:t>
            </a: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ACP encounters a Bib 650 field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CP checks that the headings belong to the same thesaurus (LCSH, MeSH, etc.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CP compares the bib 650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with the authority 008/byte 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saurus Check Table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371600" y="1752480"/>
          <a:ext cx="6095880" cy="29671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 008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 650, 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Lucida Grande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CP Step 3 - Subjec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ject Heading Thesaurus Check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values are unsupported (no updat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455 fields DO NOT update bib 650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19320" y="3429000"/>
          <a:ext cx="6095880" cy="148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 008/Byte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Bib 650, 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Lucida Grande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NO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c Authority Control Process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2848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111" name="Oval 13"/>
          <p:cNvSpPr/>
          <p:nvPr/>
        </p:nvSpPr>
        <p:spPr>
          <a:xfrm>
            <a:off x="6067440" y="866880"/>
            <a:ext cx="685800" cy="58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Oval Callout 6"/>
          <p:cNvSpPr/>
          <p:nvPr/>
        </p:nvSpPr>
        <p:spPr>
          <a:xfrm>
            <a:off x="5410080" y="2666880"/>
            <a:ext cx="2743200" cy="1371600"/>
          </a:xfrm>
          <a:prstGeom prst="wedgeEllipseCallout">
            <a:avLst>
              <a:gd name="adj1" fmla="val -16310"/>
              <a:gd name="adj2" fmla="val -138050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ith INDEX searching,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Oval Callout 7"/>
          <p:cNvSpPr/>
          <p:nvPr/>
        </p:nvSpPr>
        <p:spPr>
          <a:xfrm>
            <a:off x="2895480" y="4038480"/>
            <a:ext cx="3048120" cy="2362320"/>
          </a:xfrm>
          <a:prstGeom prst="wedgeEllipseCallout">
            <a:avLst>
              <a:gd name="adj1" fmla="val -103782"/>
              <a:gd name="adj2" fmla="val -148342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art typing your search and the index will “jump” to the entr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llennium Headings Report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lennium Heading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 of changes made to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changes that may need to be m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records (bib, item, patron, authority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RM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utine Maintenance Operat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on a weekly basis by the MCO Operations/Help Des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may be run off-schedu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ings Report File exceeds 60%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 record loads (run dail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batch record loa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RM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dings Report Distribut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differently by Clust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lusters split the reports out by institution and rotate the non-site-specific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lusters have all reports sent to a single institu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RM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dings Reports Group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-Specific” Reports (MCO term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plicate Patron Barcodes Report (MERLIN &amp; SWAN) (Cluster Repor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zzzz” Headings Report (Cluster Repor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tating” Headings Report (Cluster Report) (MCO term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RM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ource Limi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MCO to create “site-specific” repor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MCO to create reports for specific record loa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RM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ource Limi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by MC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Date Ran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 Group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lude records with no CAT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Fiel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dings Reports Field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ystem function via which the heading was ente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istics grou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initia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, report-specific 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itutional (“Site-Specific”)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limiting report to site-specific location cod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bug: cannot limit reports by more than 70 loc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s with more than 70 locations may receive more than 1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itutional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ings used for the first time (MERLIN only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lid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plicate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d bibliographic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match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busy, not upd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23800" y="876240"/>
            <a:ext cx="8075520" cy="5829480"/>
          </a:xfrm>
          <a:prstGeom prst="rect">
            <a:avLst/>
          </a:prstGeom>
          <a:ln w="0">
            <a:noFill/>
          </a:ln>
        </p:spPr>
      </p:pic>
      <p:sp>
        <p:nvSpPr>
          <p:cNvPr id="117" name="Oval Callout 9"/>
          <p:cNvSpPr/>
          <p:nvPr/>
        </p:nvSpPr>
        <p:spPr>
          <a:xfrm>
            <a:off x="3581280" y="2971800"/>
            <a:ext cx="3353040" cy="2362320"/>
          </a:xfrm>
          <a:prstGeom prst="wedgeEllipseCallout">
            <a:avLst>
              <a:gd name="adj1" fmla="val -86087"/>
              <a:gd name="adj2" fmla="val -103986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uble-Clic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he Display button 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Time Use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RLIN sites except MU Law &amp; UMS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al (usually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s headings not previously used in catalo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 in identifying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ime Use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C tag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ceded b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entry of preceding heading in the ind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First Time Use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llowed b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entry of following heading in the ind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om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record #, author,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talog Dat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CAT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First Time Use Entrie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information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whether the heading contains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y identified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Time Use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eadings used for the first tim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a1001 |aAl Atik, Linda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Author: al atik lind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eceded by "b": al assaf a f 195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llowed by "a 4XX": al attas m naquib muhammad naquib sye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: b61730622 Al Atik, Linda. Development of improved procedures for seismic design of buried and partially buried structures / Linda Al Atik and Nicholas Sitar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oclc  Group: 0  Initials:   Entry Date: Jan 3, 2008 3:11:06 P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talog Date: Jan 3, 2008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alid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bib record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ennium compares bib headings with ind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ennium identifies matching authority SEE FROM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-by-character check NOT performed (not an AACP function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Invalid Headings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C tag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rect heading i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authority Main Entry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Invalid Headings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om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record #, author,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talog Dat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CAT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Invalid Entrie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whether the bib heading should be chang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ly change the bib heading; 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ress/unsuppress the authority record, so that AACP makes the chan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bib heading is correct as is, ignore the report ent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alid Headings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valid heading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b7102 |aPsychotherapy.ne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AUTHOR: psychotherapy ne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rrect Heading is: psychotherapistresources co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: b28316769  Motivational interviewing [videorecording] / with William R. Miller ; an Allyn &amp; Bacon presentaion ; produced by Governors Stat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niversity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oclc  Group: 0  Initials:   Entry Date: May 22, 2008 1:20:09 P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talog Date: May 22, 2008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23800" y="876240"/>
            <a:ext cx="8075520" cy="5829480"/>
          </a:xfrm>
          <a:prstGeom prst="rect">
            <a:avLst/>
          </a:prstGeom>
          <a:ln w="0">
            <a:noFill/>
          </a:ln>
        </p:spPr>
      </p:pic>
      <p:sp>
        <p:nvSpPr>
          <p:cNvPr id="121" name="Oval Callout 6"/>
          <p:cNvSpPr/>
          <p:nvPr/>
        </p:nvSpPr>
        <p:spPr>
          <a:xfrm>
            <a:off x="5715000" y="4343400"/>
            <a:ext cx="3200400" cy="2362320"/>
          </a:xfrm>
          <a:prstGeom prst="wedgeEllipseCallout">
            <a:avLst>
              <a:gd name="adj1" fmla="val -91597"/>
              <a:gd name="adj2" fmla="val -112453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.. to open the page in the manual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plicate Entries (Use)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bib, item or patron record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plicate fields governed by Millennium System Option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Maintenance Option # 3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plicate use fields: o (OCLC #) and b (Barcod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Duplicate Use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C tag (or field tag for non-MARC fields)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# of the updated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Duplicate Use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ther the duplicate is vali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valid, ignore the report ent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nvalid, resolve the dupl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LC #: Change field value  or merge reco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code: Enter new barcode val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s may require a new I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plicate Use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uplicate entr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b002060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PATRON BARCODE: 002060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: p13027463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oclc  Group: 998  Initials: sfp  Entry Date: Jul 16, 2008 4:00:00 P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d Bib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Due to a system bug,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pdated bibliographic headin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appears on the Cluster (“Rotating”) Report, rather than the site-specific repor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ar Match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on bib headings NOT updated by AA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ed entries of bib &amp; authority SEE FROM headings match (AACP Step 1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ings do not match on a character-by-character basis (AACP Step 3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Near Match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b MARC tag, indicators, subfield delimiters, codes, and head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rect heading may b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thority Main Entry MARC tag, indicators, subfield delimiters, codes, and head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Near Match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bliographic record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ity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talog Dat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b CAT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the Near Match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bib and authority SEE FROM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whether update is appropri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ly update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, ignore report ent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ar Match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ar match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b7102 |aHoover Institution on War, Revolution, and Peac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AUTHOR: hoover institution on war revolution and pea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rrect Heading may be: a110 2 |aStanford University.|bArms Control Projec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ibliographic record number: b1200292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uthority record number: a1842670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au  Group: 0  Initials:   Entry Date: Jul 10, 2008 4:08:35 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talog Date: May 24, 200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"/>
          <p:cNvPicPr/>
          <p:nvPr/>
        </p:nvPicPr>
        <p:blipFill>
          <a:blip r:embed="rId2"/>
          <a:stretch/>
        </p:blipFill>
        <p:spPr>
          <a:xfrm>
            <a:off x="534960" y="914400"/>
            <a:ext cx="8075520" cy="5810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Oval Callout 8"/>
          <p:cNvSpPr/>
          <p:nvPr/>
        </p:nvSpPr>
        <p:spPr>
          <a:xfrm>
            <a:off x="4503600" y="2057400"/>
            <a:ext cx="2963880" cy="990720"/>
          </a:xfrm>
          <a:prstGeom prst="wedgeEllipseCallout">
            <a:avLst>
              <a:gd name="adj1" fmla="val 27092"/>
              <a:gd name="adj2" fmla="val -106106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you SEARCH,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6532560" y="914400"/>
            <a:ext cx="685800" cy="58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Oval Callout 13"/>
          <p:cNvSpPr/>
          <p:nvPr/>
        </p:nvSpPr>
        <p:spPr>
          <a:xfrm>
            <a:off x="2514600" y="2895480"/>
            <a:ext cx="3048120" cy="2210040"/>
          </a:xfrm>
          <a:prstGeom prst="wedgeEllipseCallout">
            <a:avLst>
              <a:gd name="adj1" fmla="val -52759"/>
              <a:gd name="adj2" fmla="val -104949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ype your search term/s and click Searc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y Match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on bib headings NOT updated by AA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record “in use” by syst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Busy Match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b MARC tag, indicators, subfield delimiters, codes, and head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rect heading may b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thority Main Entry MARC tag, indicators, subfield delimiters, codes, and head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Busy Match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bliographic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ity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talog Dat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b CAT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the Busy Match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the bib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authorized for function # 02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to your site coordinator ifyou are not authoriz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ly update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Institutio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y Match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ourier New"/>
              </a:rPr>
              <a:t>(Sorry, I couldn’t find an example.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uster Level Headings Report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plicate Patron Barcode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LIN &amp; SW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zzzz”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 &amp; SW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ster “Rotating” Report (MCO term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plicate Patron Barcode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plicate Use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o Function = Record Loa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&amp; resolved as with Duplicate Use on site-specific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zzzz” Heading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contain any of the institutional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Location = zzzzz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&amp; resolved as with the institutional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ating”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ind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plicate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Updated bibliographic headings]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unique 4x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thesaurus mat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also contain institutional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ind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n AACP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Main Entry with no corresponding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11280" y="914400"/>
            <a:ext cx="8075520" cy="581040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10"/>
          <p:cNvSpPr/>
          <p:nvPr/>
        </p:nvSpPr>
        <p:spPr>
          <a:xfrm>
            <a:off x="3581280" y="3505320"/>
            <a:ext cx="3048120" cy="2209680"/>
          </a:xfrm>
          <a:prstGeom prst="wedgeEllipseCallout">
            <a:avLst>
              <a:gd name="adj1" fmla="val -92444"/>
              <a:gd name="adj2" fmla="val -66157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list  of entries appear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Blinds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o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thority record number, Main Entry MARC tag, indicators, subfield delimiters, codes, and head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Blind Entrie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ther or not to retain authority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etaining record, code ACODE1 as “b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deleting record, code ASUPPRESS as “d” and ACODE2 as appropri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ind Headings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lind referenc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: a12498889 NAME AUTHR 1001 |aKrumhansl, Aar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mcat  Group: 601  Initials: gingera  Entry Date: Jul 16, 2008 2:19:17 P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plicate Authority Record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n AACP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(or more) authority records with matching indexed entries of Main Ent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Duplicate Authority Record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Entry MARC tag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ed entry of authority Main Entry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Duplicate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ther records are true dupl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dupe, code one ASUPPRESS as “d” and ACODE2 as appropri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, ignore report ent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plicate Authority Records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uplicate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a1001 |aSmith, Richard A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AUTHOR: smith richard 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: a1847942x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oclc  Group: 998  Initials: cag  Entry Date: Jul 15, 2008 8:17:48 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d Bib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on bib headings updated by AACP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al: No action required (usually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identify erroneously changed bib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SEE FROM entries (“cag” could be “Gould, Christopher” or “ConAgra Foods”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Bib Updates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-update bib MARC tag, indicators, subfield delimiters, codes, and head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ed index entry of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anged t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w bib MARC tag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Bib Updates Report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b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ity record numb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record that provided the Main Entry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1280" y="914400"/>
            <a:ext cx="8075520" cy="5810400"/>
          </a:xfrm>
          <a:prstGeom prst="rect">
            <a:avLst/>
          </a:prstGeom>
          <a:ln w="0">
            <a:noFill/>
          </a:ln>
        </p:spPr>
      </p:pic>
      <p:sp>
        <p:nvSpPr>
          <p:cNvPr id="135" name="Oval Callout 4"/>
          <p:cNvSpPr/>
          <p:nvPr/>
        </p:nvSpPr>
        <p:spPr>
          <a:xfrm>
            <a:off x="3211560" y="3886200"/>
            <a:ext cx="3048120" cy="2209680"/>
          </a:xfrm>
          <a:prstGeom prst="wedgeEllipseCallout">
            <a:avLst>
              <a:gd name="adj1" fmla="val -56467"/>
              <a:gd name="adj2" fmla="val -78675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uble-Click to open the page you are interested i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Bib Updates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, no action need be ta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bib heading was erroneously updated, fix the bib heading(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steps to mitigate future erroneous changes (but sometimes it’s not possibl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d Bib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d bibliographic heading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s800 1 |aHodge, Deborah.|tKids Can Press wildlife seri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AUTHOR: hodge debora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anged to: s830  0|aKids Can Press wildlife seri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ibliographic record number: b231313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uthority record number: a18562048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au  Group: 0  Initials:   Entry Date: Jul 17, 2008 4:18:34 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Unique 4xx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on bib headings NOT updated by AA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uthority records with matching indexed entries of SEE FROM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Non-Unique 4xx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MARC tag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ed entry of authority SEE FROM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ity Record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field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Non-Unique 4xx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ther SEE FROM entries are true dupl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ther SEE FROM entries are valid duplicates (“cag”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lving Non-Unique 4xx Entr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duplicate, code one record ASUPPRESS as “d” and ACODE2 as appropri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, ignore report ent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Unique 4xx Report - Exampl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on-unique 4XX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: b4102 |aFAA AS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ed as AUTHOR: faa as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uthority record number: a17879693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uthority record number: a18482363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: au  Group: 0  Initials:   Entry Date: Jul 16, 2008 4:04:20 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Thesaurus Match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ed by updates to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on bib headings NOT updated by AA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from 650 thesaurus check (bib 650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dicator with authority 008/byte 11) in AACP Step 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Thesaurus Match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650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dicator &amp; authority 008/byte 11 do not correspo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650 does not specify a thesaur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is blan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ing the Cross-Thesaurus Match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eld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MARC tag, indicators, subfield delimiters, codes, and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exed a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ed entry of bib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bliographic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thority Record Num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it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ry D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shop Overview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ng the III User Manu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2848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139" name="Oval 6"/>
          <p:cNvSpPr/>
          <p:nvPr/>
        </p:nvSpPr>
        <p:spPr>
          <a:xfrm>
            <a:off x="6991200" y="866880"/>
            <a:ext cx="685800" cy="58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Oval Callout 7"/>
          <p:cNvSpPr/>
          <p:nvPr/>
        </p:nvSpPr>
        <p:spPr>
          <a:xfrm>
            <a:off x="4267080" y="2057400"/>
            <a:ext cx="3429000" cy="2362320"/>
          </a:xfrm>
          <a:prstGeom prst="wedgeEllipseCallout">
            <a:avLst>
              <a:gd name="adj1" fmla="val 37592"/>
              <a:gd name="adj2" fmla="val -74995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RCH ID#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The Search ID# is the same as the Page #.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ings Reports - Clu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Thesaurus Match Report - Examp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rry, again I couldn’t find one.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WIW, I’ve never actually seen an example of this repor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ding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Process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S – A Little History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Developed by Western Library Network (WLN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OBIUS contracted with WLN in 199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OCLC purchased WL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ARS purchased by Backstage Library Work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OBIUS Authority RFP – 2007/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Processing -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stage MARS Servic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uthority Master 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Backstage maintains copy of each cluster’s authority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Backstage compares authority file with LC for additions, deletions, and chang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Backstage provides authority reco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Processing -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stage MARS Servic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urrent Cataloging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Backstage performs authority control processing on cluster bibs uploaded by MC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Backstage provides authority records for bib head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Processing -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 Overvie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ARS Authority processing is performed on a quarterly basis, staggered by clust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compiles &amp; outputs bib and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Processing -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 Overvie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provide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Updated bib reco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New &amp; updated authority reco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loads bib and authority records provided by Backst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forwards the reports to the clust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Processing - Workflo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dds &amp; Dele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2848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6991200" y="866880"/>
            <a:ext cx="685800" cy="58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Oval Callout 7"/>
          <p:cNvSpPr/>
          <p:nvPr/>
        </p:nvSpPr>
        <p:spPr>
          <a:xfrm>
            <a:off x="5181480" y="1981080"/>
            <a:ext cx="3429000" cy="2362320"/>
          </a:xfrm>
          <a:prstGeom prst="wedgeEllipseCallout">
            <a:avLst>
              <a:gd name="adj1" fmla="val 9814"/>
              <a:gd name="adj2" fmla="val -74592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you click SRCH ID#, a new window ope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3"/>
          <a:stretch/>
        </p:blipFill>
        <p:spPr>
          <a:xfrm>
            <a:off x="2133720" y="1219320"/>
            <a:ext cx="2809800" cy="809640"/>
          </a:xfrm>
          <a:prstGeom prst="rect">
            <a:avLst/>
          </a:prstGeom>
          <a:ln w="0">
            <a:noFill/>
          </a:ln>
        </p:spPr>
      </p:pic>
      <p:sp>
        <p:nvSpPr>
          <p:cNvPr id="147" name="Oval Callout 9"/>
          <p:cNvSpPr/>
          <p:nvPr/>
        </p:nvSpPr>
        <p:spPr>
          <a:xfrm>
            <a:off x="1295280" y="3200400"/>
            <a:ext cx="3581640" cy="2362320"/>
          </a:xfrm>
          <a:prstGeom prst="wedgeEllipseCallout">
            <a:avLst>
              <a:gd name="adj1" fmla="val 34912"/>
              <a:gd name="adj2" fmla="val -113703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ype in the page number you want to view and click Search or &lt;Enter&gt;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ity ACODE2 Fixed Field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Used to identify type of authority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Name, Title, LCSH, LC Children’s SH, MeS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LC or Loc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oded (by catalogers)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When adding new authority reco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When marking records for dele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ODE2 Valu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219320" y="1828800"/>
          <a:ext cx="6095880" cy="4114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CODE2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uthority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C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C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C Children’s 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M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C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oc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ocal 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Grande"/>
                        </a:rPr>
                        <a:t>Local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ODE2 Exception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ERLIN does not use the ACODE2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 all clusters use LC Children’s SH and/or MeS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taloger Responsibiliti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ode ACODE2 with appropriate value when downloading new authority records from OCLC (Add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When marking authority records for deletio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Code the ACODE2 with the appropriate val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Code the ASUPPRESS field with a “d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s &amp; Deletes Workflow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compiles review files of authority Add &amp; Delete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view File Parameters - Ad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Create Date within previous 3 month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SUPPRESS = -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CODE2 = [value]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s &amp; Deletes Workflow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view File Parameters - Dele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SUPPRESS = 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CODE2 = [value]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outputs the Adds &amp; Deletes records according to type of authority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s &amp; Deletes Workflow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uploads the Adds &amp; Deletes records to Backst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confirms receipt of fi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applies the Adds &amp; Deletes to the authority master 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Adds &amp; Delet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s &amp; Deletes Workflow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updates the ACODE2 values of the Adds authority records to “-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m” on MERL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deletes the Delete records from the Cluster authority 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Notification Service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compares Authority Master File (copy of Cluster authority file) with LC authority fi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dentifies changes to existing records, replacement records, and deleted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533520" y="885960"/>
            <a:ext cx="8075520" cy="5810040"/>
          </a:xfrm>
          <a:prstGeom prst="rect">
            <a:avLst/>
          </a:prstGeom>
          <a:ln w="0">
            <a:noFill/>
          </a:ln>
        </p:spPr>
      </p:pic>
      <p:sp>
        <p:nvSpPr>
          <p:cNvPr id="151" name="Oval Callout 11"/>
          <p:cNvSpPr/>
          <p:nvPr/>
        </p:nvSpPr>
        <p:spPr>
          <a:xfrm>
            <a:off x="4724280" y="2886120"/>
            <a:ext cx="3429000" cy="2362320"/>
          </a:xfrm>
          <a:prstGeom prst="wedgeEllipseCallout">
            <a:avLst>
              <a:gd name="adj1" fmla="val 42870"/>
              <a:gd name="adj2" fmla="val -68138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manual opens to that pag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Notification Service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provides New and Changed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provides reports of Changed and Deleted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Notification Service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loads authority records provided by Backst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5,000 authority records loaded per da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Headings Reports run daily during authority loa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forwards the report files to the Cluster contact(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Authority Processing Workflo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urrent Cataloging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compiles review file(s) of bib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CAT DATE within previous 3 month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BCODE3 = -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Only bib records contributed to MOBIUS catalo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updates the bib BCODE3 values to “a” (“e” on MERLIN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outputs the file(s) of bib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uploads the bib file(s) to Backst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performs cleanup of the Bib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ee Handout for detai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compiles all headings used in bib records and compares them against the Cluster Authority Master 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f a match is found in the Cluster Authority Master File, the process sto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f no match is found, Backstage compares the headings against the LC authority fi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f a match is found in LC, Backstage provides the authority record to MC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f no match is found in LC, Backstage includes the heading on the MARS Unmatched Heading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provides bib records that have been cleaned up (MCO term: “MARS processed bibs”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Backstage provides authority records for headings that did not find a match in the Authority Master File and found a match in L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loads the processed bib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updates the BCODE3 values of the unprocessed bib records to”-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33520" y="885960"/>
            <a:ext cx="8075520" cy="5810040"/>
          </a:xfrm>
          <a:prstGeom prst="rect">
            <a:avLst/>
          </a:prstGeom>
          <a:ln w="0">
            <a:noFill/>
          </a:ln>
        </p:spPr>
      </p:pic>
      <p:sp>
        <p:nvSpPr>
          <p:cNvPr id="155" name="Cloud 6"/>
          <p:cNvSpPr/>
          <p:nvPr/>
        </p:nvSpPr>
        <p:spPr>
          <a:xfrm>
            <a:off x="1143000" y="2362320"/>
            <a:ext cx="7010280" cy="2895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g onto the Manual using CSDirect and fi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page number for the page titled “Shortcut Keys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. the title of page 107672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– Current Catalog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Current Cataloging Service Workf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loads authority records provided by Backst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5,000 authority records loaded per da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Headings Reports run daily during authority loa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CO forwards the report files to the Cluster contact(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Authority Process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S Processing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-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-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S Notification Service (NS) Repor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hanged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Deleted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ports for each type of authority record (Name, Title, Series, LCSH, LC Children’s SH, MeSH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-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d Authority Record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nformational; no action need be ta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cords already provided by Backstage &amp; loaded by MC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-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ted Authority Record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ports on deleted authority records and their replacements (where they exis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placement records already provided by Backstage and loaded by MC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- Notific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ted Authority Record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Deleted records need be coded for deletion in Millennium (by cataloger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SUPPRESS = 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CODE2 = [appropriate value]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urrent Cataloging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Cataloging Service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01 – Statistical Summa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07 – Unmatched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09 – Possible Invalid Ta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11 – Heading Usage Not Authoriz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13 – Suspicious Filing Indicat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14 – Possible Leading Artic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25 – Unrecognized $z Subfiel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Cataloging Service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31 – Split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32 – Tags Flipp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33520" y="885960"/>
            <a:ext cx="8075520" cy="5810040"/>
          </a:xfrm>
          <a:prstGeom prst="rect">
            <a:avLst/>
          </a:prstGeom>
          <a:ln w="0">
            <a:noFill/>
          </a:ln>
        </p:spPr>
      </p:pic>
      <p:sp>
        <p:nvSpPr>
          <p:cNvPr id="159" name="Cloud 6"/>
          <p:cNvSpPr/>
          <p:nvPr/>
        </p:nvSpPr>
        <p:spPr>
          <a:xfrm>
            <a:off x="457200" y="2362320"/>
            <a:ext cx="8153280" cy="3124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id you do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. the page number for the page titled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hortcut Keys” (100742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. the title of page 107672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Cataloging – from the What’s New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007 Enhancement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stical Summary Repor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tion 1: Record overvie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Number of records sent &amp; proce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tion 2: Field distribu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ield count &amp; number chang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stical Summary Repor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tion 3: Authority contro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ield match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tion 4: Authority control process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Counts for report typ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ome reports not received by SW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matched Primary Heading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not matching any authority Main Entry or SEE FRO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Valid headings not yet establish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ncorrect forms of established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sible Invalid Tags Report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that matched authority record with a different tag (X50 vs. X30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port lists headings not automatically corrected by MA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sible Invalid Tags Report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E: Headings that </a:t>
            </a:r>
            <a:r>
              <a:rPr b="0" i="1" lang="en-US" sz="3200" spc="-1" strike="noStrike">
                <a:solidFill>
                  <a:srgbClr val="ffffff"/>
                </a:solidFill>
                <a:latin typeface="Lucida Grande"/>
              </a:rPr>
              <a:t>were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automatically corrected are listed in Changed Headings &amp; Tags Flipped Reports (not received by all Cluster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ding Usage Not Authorized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that matched authority record, but bib usage is incorr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hange heading or ta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spicious Filing Indicators Re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with an initial word that may or may not be a leading artic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Verify filing indic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e: Heading will be listed if a record is missing a language code in 008/35-37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sible Leading Articles Repor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with an initial word that may or may not be a leading artic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Verify filing indic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recognized $z Subfields Repor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containing 1 or more geographic subdivisions not present in Backstage’s  list of established place names (See Handou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lit Headings Report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that were split during process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urses and nursing” becomes “Nurses” and “Nursing”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Authority Control Overvie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 – Current  C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gs Flipped Repor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Headings whose MARC tags were changed during process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 Repor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S Report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 &amp; Answer Tim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hristopher Goul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573 – 882 - 723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GouldC@umsystem.ed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3"/>
              </a:rPr>
              <a:t>mcohelp@umsystem.edu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What is Authority Control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aintenance of heading form consistency in a catalog or 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pplication of an authoritative list (authority file) to new ite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What is an Authority File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List of authoritative forms of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aintained to ensure consist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ncludes references to and from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Often a file of authority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What is an Authority Record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Printed or machine readable (MARC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uthoritative form of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Lucida Grande"/>
              </a:rPr>
              <a:t>See from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Lucida Grande"/>
              </a:rPr>
              <a:t>See also from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referen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Notes concerning application of authorized for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What is Authority Work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Determine authorized form of h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Name, Title (Uniform and Series), Subje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References to related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EE/SEE FRO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SEE ALSO/SEE ALSO FRO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shop Overview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 Authority Control Processing (AACP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ennium Headings Repo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stage (MARS) Authority Process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OBIUS Institutional Responsib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uthority Contro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MOBIUS Memorandum of Understan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6.0 Member Institution Responsibiliti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6.3 Each member institution provides to the Consortium its bibliographic, authority, holdings, and patron records for inclusion in the Common Library Platform in a timely manner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6.4 Each member institution shall maintain bibliographic, authority, holdings, and patron records to agreed upon consortium stand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ity Control Overview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Library of Congres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MARC21 Format for Authority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http://www.loc.gov/marc/authority/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OCL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OCLC Authorities User Guid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http://www.oclc.org/us/en/support/documentation/worldcat/authorities/userguide/default.ht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Millennium Authority Record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8915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228600" y="876240"/>
            <a:ext cx="86868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152280" y="895320"/>
            <a:ext cx="87631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152280" y="90504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152280" y="905040"/>
            <a:ext cx="8839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sk any time!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228600" y="90504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8600" y="90504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Viewing Fixed-Length Field Valu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Must be authorized for function # 65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sk your site coordinat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30592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Oval 6"/>
          <p:cNvSpPr/>
          <p:nvPr/>
        </p:nvSpPr>
        <p:spPr>
          <a:xfrm>
            <a:off x="1981080" y="1143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981080" y="2590920"/>
            <a:ext cx="10670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3962520" y="2666880"/>
            <a:ext cx="9903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876920" y="3048120"/>
            <a:ext cx="16002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228600" y="90504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8600" y="90504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3"/>
          <a:stretch/>
        </p:blipFill>
        <p:spPr>
          <a:xfrm>
            <a:off x="1714680" y="1047600"/>
            <a:ext cx="5715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52280" y="905040"/>
            <a:ext cx="8763120" cy="5800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1714680" y="1047600"/>
            <a:ext cx="5715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52280" y="905040"/>
            <a:ext cx="8763120" cy="5715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5715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Lucida Grande"/>
              </a:rPr>
              <a:t>Using the Millennium Users Manual</a:t>
            </a:r>
            <a:endParaRPr b="0" lang="en-US" sz="5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Title 3"/>
          <p:cNvSpPr/>
          <p:nvPr/>
        </p:nvSpPr>
        <p:spPr>
          <a:xfrm>
            <a:off x="685800" y="3505320"/>
            <a:ext cx="7772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Two ways to access the manua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III’s ‘CSDirect’ WebPages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Grande"/>
              </a:rPr>
              <a:t>Millennium Modules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261" name="Oval 4"/>
          <p:cNvSpPr/>
          <p:nvPr/>
        </p:nvSpPr>
        <p:spPr>
          <a:xfrm>
            <a:off x="2057400" y="1143000"/>
            <a:ext cx="6858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1905120" y="2057400"/>
            <a:ext cx="18288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1600200" y="914400"/>
            <a:ext cx="4286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1828800" y="838080"/>
            <a:ext cx="4267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763120" cy="5715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2057400" y="838080"/>
            <a:ext cx="4572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3"/>
          <a:stretch/>
        </p:blipFill>
        <p:spPr>
          <a:xfrm>
            <a:off x="1752480" y="847800"/>
            <a:ext cx="45151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0" y="91440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http://csdirect.iii.com    (Do NOT enter the “www”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{See your site coordinator for login &amp; password}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User Guides, References and Manual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76320" y="2133720"/>
            <a:ext cx="5610240" cy="198108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10"/>
          <p:cNvCxnSpPr/>
          <p:nvPr/>
        </p:nvCxnSpPr>
        <p:spPr>
          <a:xfrm>
            <a:off x="913320" y="1904760"/>
            <a:ext cx="1600920" cy="2057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2021040" y="4857840"/>
            <a:ext cx="7046640" cy="1923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6477120" y="1600200"/>
            <a:ext cx="2438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MOBIUS server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are currently on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Release 2007.  Release manuals are cumulative; if nothing has changed, the information from the previous manual will be include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74" name="Straight Arrow Connector 16"/>
          <p:cNvCxnSpPr/>
          <p:nvPr/>
        </p:nvCxnSpPr>
        <p:spPr>
          <a:xfrm flipH="1">
            <a:off x="5333760" y="4419720"/>
            <a:ext cx="1219680" cy="1372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763120" cy="5715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1828800" y="847800"/>
            <a:ext cx="4400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1905120" y="847800"/>
            <a:ext cx="45147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2057400" y="847800"/>
            <a:ext cx="45147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2314440" y="838080"/>
            <a:ext cx="45151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Authority Reco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300816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r information about MARC coding for authority variable-length fields, please reference this booklet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4267080" y="942840"/>
            <a:ext cx="41911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ing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llennium Index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headings (or other data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og searching (OPAC &amp; staff function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ennium authority function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 Index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100, 110, 111, 400, 410, 411, 700, 710, 711, 800, 810, 81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100, 110, 111, 400, 410, 411, 500, 510, 51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8480" y="885960"/>
            <a:ext cx="8085240" cy="5819760"/>
          </a:xfrm>
          <a:prstGeom prst="rect">
            <a:avLst/>
          </a:prstGeom>
          <a:ln w="0">
            <a:noFill/>
          </a:ln>
        </p:spPr>
      </p:pic>
      <p:sp>
        <p:nvSpPr>
          <p:cNvPr id="78" name="Oval Callout 4"/>
          <p:cNvSpPr/>
          <p:nvPr/>
        </p:nvSpPr>
        <p:spPr>
          <a:xfrm>
            <a:off x="609480" y="3048120"/>
            <a:ext cx="3048120" cy="2971800"/>
          </a:xfrm>
          <a:prstGeom prst="wedgeEllipseCallout">
            <a:avLst>
              <a:gd name="adj1" fmla="val 89513"/>
              <a:gd name="adj2" fmla="val -44550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you use CSDirect to access the manual, it opens to the opening pag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ject Index (LCSH) 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600, 610, 611, 630, 650, 65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100, 110, 111, 130, 148, 150, 151, 155, 400, 410, 411, 430, 448, 450, 451, 455, 500, 510, 511, 530, 548, 550, 551, 555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3480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ject Index (LC Children’s SH)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ll Clusters, except MERLIN &amp; SWAN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600, 610, 611, 630, 650, 651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1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100, 110, 111, 150, 400, 410, 411, 450, 500, 510, 511, 55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ject Index (MeSH) 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ridges, LANCE, MERLIN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600, 610, 611, 630, 650, 65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2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150, 45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tle Index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 100, 110, 111, 130, 210, 211, 212, 214, 240, 245, 246, 247, 400, 410, 411, 440, 505, 533, 700, 710, 711, 730, 740, 800, 810, 811, 830, 840, 97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 100, 110, 111, 130, 400, 410, 411, 430, 500, 510, 511, 53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in Millenn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Index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LC #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 001, 01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co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 (non-MARC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on (non-MARC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, Call #, Journal Title, ISN, ARN #, etc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ing Rul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 indexing of 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ization R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apitaliz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unc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ersand (&amp;) becomes “and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25 charac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 tags, indicators, subfiel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ewing the Millennium Index R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ccess via the character-based interface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.k.a. Telnet, Anzio, QVT, SSH, Put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sk your site coordinator for the logi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Lucida Grande"/>
              </a:rPr>
              <a:t>Using the Millennium Users Manual</a:t>
            </a:r>
            <a:endParaRPr b="0" lang="en-US" sz="5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Title 3"/>
          <p:cNvSpPr/>
          <p:nvPr/>
        </p:nvSpPr>
        <p:spPr>
          <a:xfrm>
            <a:off x="685800" y="3505320"/>
            <a:ext cx="7772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Two ways to access the manua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Grande"/>
              </a:rPr>
              <a:t>III’s ‘CSDirect’ WebPages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Millennium Modules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839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 Rules – MARC Tag Syntax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dicator spa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71 = 247,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712 = 247,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1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2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cards (full stop or period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.0 = 400, an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icator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icator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 Rules – MARC Tag Syntax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145]00 = 100, 400, 500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0.[12345678] = 600, any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icator any digit except 0 or 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0.[1-8] = same 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763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8839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236232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ve User M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6"/>
          <p:cNvSpPr/>
          <p:nvPr/>
        </p:nvSpPr>
        <p:spPr>
          <a:xfrm>
            <a:off x="4114800" y="2362320"/>
            <a:ext cx="4038480" cy="2209680"/>
          </a:xfrm>
          <a:prstGeom prst="wedgeEllipseCallout">
            <a:avLst>
              <a:gd name="adj1" fmla="val -52310"/>
              <a:gd name="adj2" fmla="val -75819"/>
            </a:avLst>
          </a:prstGeom>
          <a:solidFill>
            <a:srgbClr val="007ad6">
              <a:alpha val="9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rom Millennium, open the Help menu and go to Manu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 Rules – Subfield Rul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the listed subfiel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 (remov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index the listed subfiel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each instance of the listed subfiel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ity Index Rul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ity Index Rules (SWAN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763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nnium Index Ru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2351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ging Index Rul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 rules may be changed by II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ster decision for chang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x rules changes may incur a cost (from III) for reindex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a call with the MCO Help Des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4" descr="MOBIUS_slides_1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5"/>
          <p:cNvSpPr/>
          <p:nvPr/>
        </p:nvSpPr>
        <p:spPr>
          <a:xfrm>
            <a:off x="2362320" y="228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d63"/>
                </a:solidFill>
                <a:latin typeface="Arial"/>
              </a:rPr>
              <a:t>Authority Control Worksho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ing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20:24:51Z</dcterms:created>
  <dc:creator>Christopher Gould</dc:creator>
  <dc:description/>
  <dc:language>en-US</dc:language>
  <cp:lastModifiedBy>gouldc</cp:lastModifiedBy>
  <dcterms:modified xsi:type="dcterms:W3CDTF">2009-02-18T16:20:23Z</dcterms:modified>
  <cp:revision>206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72AC84DB96DA24E8464EB2445C51567</vt:lpwstr>
  </property>
</Properties>
</file>